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D6ADE-0F5F-423E-8900-EC4183230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FDB9E-59EE-48BA-9EEA-1F4E2621E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56B92-6EEB-4BF6-BA88-10B9D0D68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B8B2E-593A-43FB-B0A2-88989CA5C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C029B-2295-46DC-862B-1139BE0AE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D603E-DC72-4004-89D0-01D60749F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16232-3194-4E84-B9B4-D3594E0D1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EC274-CA59-443A-8EFD-2EB7F2F6F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25944-1BAD-4A5A-B47E-9A923A804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2D05B-4387-49E4-9D5E-C66DF1DD2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F8000-0FA7-4401-87AF-DC12FA83A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2914D-59BE-4FFF-A20E-9BA1EFA8F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AFBCC-DB42-4441-BB5B-A68A3D9F9E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es automobiles – mini-projet #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3716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Choix 1- une affiche (poster):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 Choisir un automobile entre les ann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Calibri"/>
              </a:rPr>
              <a:t>ées 1920-1960. Presenter sous la forme d’une affiche les qualités esthéthiques et practiques. </a:t>
            </a:r>
            <a:r>
              <a:rPr b="0" lang="fr-FR" sz="2700" spc="-1" strike="noStrike">
                <a:solidFill>
                  <a:srgbClr val="000000"/>
                </a:solidFill>
                <a:latin typeface="Calibri"/>
                <a:ea typeface="Calibri"/>
              </a:rPr>
              <a:t>Recherhe à faire:  la vitesse (speed), la puissance de moteur (power of motor), l’efficacité (fuel efficiency), et les qualités esthétiques (attractive qualities).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alibri"/>
                <a:ea typeface="Calibri"/>
              </a:rPr>
              <a:t>Choix 2- Diagramme Venn: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Calibri"/>
              </a:rPr>
              <a:t>  Choisir  deux automobiles, une de 1924 et une de 2013.  Noter les différences et les ressemblances dans un diagramme Venn.  N’oublie pas d’avoir un photo de chaque automobile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alibri"/>
                <a:ea typeface="Calibri"/>
              </a:rPr>
              <a:t>Choix 3- Ligne de temps (timeline):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Calibri"/>
              </a:rPr>
              <a:t> 1900- 2013.  Noter les ressemblances et les différences pendant des années.  Tu dois avoir au moins 10 automobiles sur ton ligne de temp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4T13:33:29Z</dcterms:created>
  <dc:creator>ED18</dc:creator>
  <dc:description/>
  <dc:language>en-US</dc:language>
  <cp:lastModifiedBy>ED18</cp:lastModifiedBy>
  <dcterms:modified xsi:type="dcterms:W3CDTF">2012-10-10T12:15:19Z</dcterms:modified>
  <cp:revision>6</cp:revision>
  <dc:subject/>
  <dc:title>Les automobiles - projet</dc:title>
</cp:coreProperties>
</file>